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5D8-0966-46CA-9C62-34C67942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DE4-F381-4406-9B6D-01F5A6E4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CCF-6E65-4921-A694-97AF3E2C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8AD-B4A7-4892-8132-821794EB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BB49-87D8-47E7-AF74-94BC17CB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7B31-723D-43F1-958F-2605C1F6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FCB6-9995-4F68-9645-191F894F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4225-CDD4-45BE-9DF4-BDF32EAF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978A-B89C-49A3-BF4D-6B8CBA06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14CE-7F12-4D7B-AF44-109AC210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C7BA-BC2F-415E-8FAF-7E5A80EF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7C7-D1BD-4651-A8BD-22994BEF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984B-8D64-4C6A-A9AE-C535818A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ED07-F60F-4AC2-B1A7-B6F1D741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158C-DEDF-4D4E-B82C-8D26C220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F2FE-F8C3-4663-9BA1-F692950E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6CDF-B52C-4E44-A8A0-0BAF20F6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8D6-6F62-47E1-ADFA-A50BCDE0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3ABE-47A9-40FA-A74C-3F5115B1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238-7724-4E19-998B-964B4671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EE8-DB94-47C7-AD66-3DF024B5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54D-897A-45F7-AB97-D1F30451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388-B5C3-4661-A524-F87DFFFA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24A-40E9-4FDA-A4B7-DF262558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B88D-23C1-4673-B1F7-BDA3775C49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88B8-A4CE-4909-9DC3-E914C1E7E3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Math Flash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Rounding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By Monica Yuskaiti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05740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Find your numbe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36576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5, 3 2 7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3960" y="5257800"/>
            <a:ext cx="80049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ircle the number in the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lace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733920"/>
            <a:ext cx="76176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9810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ook right next doo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36576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5, 3 2 7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9960" y="5257800"/>
            <a:ext cx="75661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raw an arrow to the right of th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umber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3733920"/>
            <a:ext cx="76176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41911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9810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4 or less, just ign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33526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5, 3 2 7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840" y="5029200"/>
            <a:ext cx="89406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nce 3 is less than 4 we do not chang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5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429000"/>
            <a:ext cx="76176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388620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19810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4 or less, just ign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3526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5, 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0 0 0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0240" y="5029200"/>
            <a:ext cx="8954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ange the numbers to left of 5 to 0’s.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3429000"/>
            <a:ext cx="76176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Answ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9051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35,327 rounded to the nearest thousand i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441972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5, 0 0 0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ollar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20574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Find your numbe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33526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$ 5. 8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7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560" y="5029200"/>
            <a:ext cx="8218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ircle the number where the dollar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.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342900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ollar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20574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ook right next doo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33526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$ 5. 8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7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3680" y="5029200"/>
            <a:ext cx="75661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raw an arrow to the right of th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ircled number.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342900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388620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ollar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205740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4 or less, just ign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33526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$ 5. 8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7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6800" y="4800600"/>
            <a:ext cx="8038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8 is greater than 4 so go to the nex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line of the poem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342900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388620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ollar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0574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5 or more, add 1 m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33526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$ 5. 8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7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4520" y="4800600"/>
            <a:ext cx="8347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nce 8 is greater than 5 add 1 to th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5. 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42900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388620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6760" y="2743200"/>
            <a:ext cx="7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+1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ollar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0574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5 or more, add 1 m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33526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$ 6. 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0 0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6960" y="4800600"/>
            <a:ext cx="87228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ange the 5 to a 6 and change all th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umbers to the right to 0’s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342900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388620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Use rounding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828800"/>
            <a:ext cx="868680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When the question asks you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to estimate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When the question ask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about how many”…?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When an exact answer isn’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possible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When an answer is difficult 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to obtain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Answ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0574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$5.87 rounded to th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nearest dollar i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457200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$ 6. 0 0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th place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20574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Find your numbe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34290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4. 8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7 1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" y="5029200"/>
            <a:ext cx="8562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ircle the number in the tenths place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350532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th place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0574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ook right next doo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34290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4. 8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7 1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3680" y="5029200"/>
            <a:ext cx="75661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raw an arrow to the right of th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ircled number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350532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9625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th place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20574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4 or less just ign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34290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4. 8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7 1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0040" y="5029200"/>
            <a:ext cx="8038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8 is greater than 4 so go to the nex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line of the poem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350532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9625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th place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0574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5 or more, add 1 m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0" y="34290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4. 8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7 1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5029200"/>
            <a:ext cx="84880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nce 7 is greater than 5, add 1 to th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8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6200" y="350532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9625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5360" y="2819520"/>
            <a:ext cx="7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+1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th place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0574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5 or more, add 1 m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34290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4. 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68760" y="5029200"/>
            <a:ext cx="7463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ange the 8 to a 9 and drop th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umbers to the right of the 9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Answ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205740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4.871 rounded to the nearest tenth place i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43434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4. 9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emorize this Po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057400"/>
            <a:ext cx="86868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Find your numbe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ook right next doo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4 or less just ign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5 or more, add 1 more.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 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228600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Find your numbe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6 8,9 7 1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3657600"/>
            <a:ext cx="68580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66200" y="4952880"/>
            <a:ext cx="658764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ircle the number in the ten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ousands place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 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0574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ook right next doo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35812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6 8,9 7 1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657600"/>
            <a:ext cx="68580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4114800"/>
            <a:ext cx="3049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59760" y="5389560"/>
            <a:ext cx="77061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raw an arrow to the right of th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umber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 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0574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4 or less, just ign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33526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6 8,9 7 1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429000"/>
            <a:ext cx="68580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809880"/>
            <a:ext cx="3049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1600" y="5389560"/>
            <a:ext cx="7790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8 is larger than 4 so go to the nex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line of the poem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 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0574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5 or more, add 1 m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407196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6 8,9 7 1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4191120"/>
            <a:ext cx="68580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4572000"/>
            <a:ext cx="3045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2800" y="5389560"/>
            <a:ext cx="3527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dd 1 to the 6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560" y="3352680"/>
            <a:ext cx="7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+1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 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0574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5 or more, add 1 m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4290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0,0 0 0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06120" y="4724280"/>
            <a:ext cx="79286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dd 1 to the 6 and all the number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the right of the 7 become 0’s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Answ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13372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368,971 rounded to the nearest ten thousand i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42670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7 0,0 0 0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4:49:56Z</dcterms:created>
  <dc:creator>Monica/Bob Yuskaitis</dc:creator>
  <dc:description/>
  <dc:language>en-US</dc:language>
  <cp:lastModifiedBy>Doug McFarland</cp:lastModifiedBy>
  <dcterms:modified xsi:type="dcterms:W3CDTF">2003-01-26T02:34:52Z</dcterms:modified>
  <cp:revision>9</cp:revision>
  <dc:subject/>
  <dc:title>Math Flash</dc:title>
</cp:coreProperties>
</file>